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7F3-3B47-4994-BC2F-0C014DE9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FB3-A1A1-4B9C-BB7B-5B12614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583-39C7-4361-B1D2-818956A0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AF9-0E56-4B4C-ABF0-CA770DFA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C24-DC09-413D-8653-0D531AAC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177-60B3-4C46-B31F-15A5502E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41F-4C17-4AF8-BCCE-F7005D9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991-2A9C-4D6B-A0DC-4BA2D5CE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CD7-DB08-46E4-B9FC-D977230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457-A7C1-4DB4-8D96-DA6755F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1D1-A647-42E1-9E37-A66852E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AF5-9236-41F8-A619-43A9D65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9567-DF2E-46C8-BFFA-5AF521972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91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down two fac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Mayor-Counci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ouncil-Manag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ommiss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pecial-Purpose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questions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584-58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CRCT prep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County Government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(Po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unty government has the power t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Levy 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 Levy local 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 Create fines and penalties (traffic tick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 Regulating licenses and per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 Implement usage fees (example: for county par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 Pass laws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s many pictures as possible in your notes that describe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he county taxes provide funding f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County Board of Commissioners: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Governing the Cou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nties are generally governed by a Board of Commissio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members are elected to four year terms in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of Commissioners meet at the county seat (the capital of the coun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of Commissioners sets levels of government services to be provided by each department of county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of Commissioners creates an annual budget, establishes county policies, levies local taxes, and makes laws for the cou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hairman of the Board is generally the counties’ chief ex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esponsibilities of the Chair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irman has the following respon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Appoints department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To carry out policies set by the county com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inted/Elected Offi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4"/>
          <p:cNvCxnSpPr/>
          <p:nvPr/>
        </p:nvCxnSpPr>
        <p:spPr>
          <a:xfrm>
            <a:off x="4419360" y="1904760"/>
            <a:ext cx="1080" cy="3810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Straight Connector 6"/>
          <p:cNvSpPr/>
          <p:nvPr/>
        </p:nvSpPr>
        <p:spPr>
          <a:xfrm>
            <a:off x="2438280" y="2819520"/>
            <a:ext cx="4114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Elected County Offi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elected county officia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Sherif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Coron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Probate Ju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Court/County Cl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 Commission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Appointed County Offi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ppointed county officia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Tax Ass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EMS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Fire Ch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Building Insp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 County Atto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 Cra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lace your right hand across the body to the left knee as you rais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o the same thing for the left hand on the right knee just as if you were mar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o this for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difference between county and city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paragra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y Govern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Board &amp; Superinten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embers are elected by vo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oard members appoint a Superintendent of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Board creates policies for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Superintendent implements these policies through executive 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Write a closed passage (fill in the blank) using the following w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grand jury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due process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misdemean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felon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criminal Justice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Arr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ity with its own government is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nicipali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ties get their permission to operate from the Georgia General Assembly. There are over 600 municipalities in Ge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ing Actions taken by c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viding police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censing of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intenance of str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ffic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ovision of water and sewag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City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city governmen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yor-Counci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uncil Manag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mmission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Government: Mayor-Council Form (Strong Execu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ayor-council style of government, the elected city council is responsible for making the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ed mayor acts as the city’s chief executive officer with the responsibility for seeing that the laws are carried out and that city agencies do their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Government: Council-Manager Form (Weak Execu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uncil manager form of city government, the voters elect a city council that appoints a city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cil establishes laws, and the city manager is responsible for appointing the heads of city governments and for seeing that they carry out their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Government: Commissioner Form (No Execu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ities with a commissioner form of government, the voters elect commissio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missioner is the head of a department within the city government, and an executive could be elected by the commissioners from among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urpose Distr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Districts provide services and have their own set of regulations gover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districts are created for a single job or single group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ho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RTA- Metropolitan Atlanta Rapid Transit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Public Housing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ire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rks and Recreation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irport and Por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s AV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ment Via Individual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WICOR?  (writing, inquiry, collaboration, organization, rea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Collaboration Activity:  Create a cartoon about the historical period (pages 13-18 in CRCT book). The cartoon should reflect the Paleo, Archaic, Woodland and Mississippian time periods. Your cartoon should include at least 10 pictu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Govern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ty and Coun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35112"/>
          <p:cNvPicPr/>
          <p:nvPr/>
        </p:nvPicPr>
        <p:blipFill>
          <a:blip r:embed="rId1"/>
          <a:stretch/>
        </p:blipFill>
        <p:spPr>
          <a:xfrm>
            <a:off x="4114800" y="464832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rgia Performance Standard SS8CG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ent will analyze the role of local governments in the state of Geo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xplain the origins, functions, purposes, and differences of county and city governments in Geo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ompare and contrast the weak mayor-council, the strong mayor-council, and the council-manager forms of city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Describe the functions of special-purpose gover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Branches of Governmen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Top to Botto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- President, VP, Cabi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slative- Congress (Senate &amp; House of Represent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- Federal Cou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- Governor, Lt. Governor, Executive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slative- Georgia’s General Assembly (Senate &amp; House of Represent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- State Cou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l (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ecutive- Chairman of the Board of Commiss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gislative- Board of Commiss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udicial- County Courts (ex. Probate Cou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-Pair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three branches keep one branch from being too power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3 Branches of Government: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“Top to Botto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 (County Sch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ve- Superint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islative- Board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udicial- Works with Juvenile Justi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 (City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Example: Mayor-Counci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ve-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islative- Cit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udicial- Municipal Court System (Traffic Cou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ocal governments are the most numerous of all governments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orgia has 159 counties, and each of the counties has a governmental organization. Counties are subdivisions of the state, set up to carry out governmen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addition to the counties, there are many cities in Georgia. Each of them has a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Not only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cal govern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numerous forms of governance, the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 also the closest to the people and the most likely to affect the people dire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y Govern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ax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ounty government taxes provide funding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nty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Police (The Sheriff’s Depar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 Court and leg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. Construction and maintenance of roads and b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. Public health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. Medical assistance (for the poor and dependent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 Parks/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. 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51:47Z</dcterms:created>
  <dc:creator>Paulding</dc:creator>
  <dc:description/>
  <dc:language>en-US</dc:language>
  <cp:lastModifiedBy>Nicka Grimes</cp:lastModifiedBy>
  <dcterms:modified xsi:type="dcterms:W3CDTF">2016-01-21T19:12:56Z</dcterms:modified>
  <cp:revision>42</cp:revision>
  <dc:subject/>
  <dc:title>Local Government  (City and County)</dc:title>
</cp:coreProperties>
</file>